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940-8C4E-4AAE-B511-579EE073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77C-7D94-4551-B830-A2B2DC1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608-E669-434B-ACFE-505278D2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402-5120-401D-9F78-826129A4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16A-0F03-4B01-9F28-271D0D5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9B9-9D90-4FC9-8B63-F154B95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C76-34D3-4B8F-87E6-A06D5DD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64-627C-40BC-A26F-CAB63A7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170-3428-4453-9A66-2EFDA8B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141-6ECA-42D0-856B-A3956A7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0B3-0A32-42E1-BFDD-060E427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95D-134A-4098-893A-2BDFCDC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C27-F0CC-476C-B0A2-BBCC7918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785960"/>
            <a:ext cx="3809880" cy="347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bis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4116240" cy="430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77208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144792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PubOvalCallout"/>
          <p:cNvSpPr/>
          <p:nvPr/>
        </p:nvSpPr>
        <p:spPr>
          <a:xfrm>
            <a:off x="2895480" y="2209680"/>
            <a:ext cx="2743200" cy="243864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267840 h 2438640"/>
              <a:gd name="textAreaBottom" fmla="*/ 1562040 h 2438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5909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Visit California and have a Whale of a good tim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2286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525" t="0" r="44434" b="25136"/>
          <a:stretch/>
        </p:blipFill>
        <p:spPr>
          <a:xfrm>
            <a:off x="4038480" y="2438280"/>
            <a:ext cx="4191120" cy="3900600"/>
          </a:xfrm>
          <a:prstGeom prst="rect">
            <a:avLst/>
          </a:prstGeom>
          <a:ln w="0">
            <a:noFill/>
          </a:ln>
        </p:spPr>
      </p:pic>
      <p:sp>
        <p:nvSpPr>
          <p:cNvPr id="60" name="PubOvalCallout"/>
          <p:cNvSpPr/>
          <p:nvPr/>
        </p:nvSpPr>
        <p:spPr>
          <a:xfrm>
            <a:off x="4495680" y="762120"/>
            <a:ext cx="1981440" cy="213336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34360 h 2133360"/>
              <a:gd name="textAreaBottom" fmla="*/ 1366560 h 2133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elcome to Hogwart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87964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05320" y="1752480"/>
            <a:ext cx="3838680" cy="355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752480" y="2971800"/>
            <a:ext cx="3381480" cy="3390840"/>
          </a:xfrm>
          <a:prstGeom prst="rect">
            <a:avLst/>
          </a:prstGeom>
          <a:ln w="0">
            <a:noFill/>
          </a:ln>
        </p:spPr>
      </p:pic>
      <p:sp>
        <p:nvSpPr>
          <p:cNvPr id="66" name="PubOvalCallout"/>
          <p:cNvSpPr/>
          <p:nvPr/>
        </p:nvSpPr>
        <p:spPr>
          <a:xfrm>
            <a:off x="1371600" y="2209680"/>
            <a:ext cx="2362320" cy="182880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200880 h 1828800"/>
              <a:gd name="textAreaBottom" fmla="*/ 1171440 h 1828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514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stop an elephant from charg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OvalCallout"/>
          <p:cNvSpPr/>
          <p:nvPr/>
        </p:nvSpPr>
        <p:spPr>
          <a:xfrm>
            <a:off x="4114800" y="160020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it’s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474920" cy="256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0626200">
            <a:off x="2590920" y="990360"/>
            <a:ext cx="1828800" cy="166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225400">
            <a:off x="533160" y="4190760"/>
            <a:ext cx="1784160" cy="1866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4525" t="0" r="44434" b="25136"/>
          <a:stretch/>
        </p:blipFill>
        <p:spPr>
          <a:xfrm>
            <a:off x="2362320" y="2743200"/>
            <a:ext cx="2666880" cy="248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920" y="16765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419720"/>
            <a:ext cx="212904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248520" y="3390840"/>
            <a:ext cx="2590560" cy="2397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28600"/>
            <a:ext cx="2247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to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1:03Z</dcterms:created>
  <dc:creator>Patrick J. Mooney</dc:creator>
  <dc:description/>
  <dc:language>en-US</dc:language>
  <cp:lastModifiedBy>Patrick J. Mooney</cp:lastModifiedBy>
  <dcterms:modified xsi:type="dcterms:W3CDTF">2011-04-25T23:09:07Z</dcterms:modified>
  <cp:revision>11</cp:revision>
  <dc:subject/>
  <dc:title>Slide 1</dc:title>
</cp:coreProperties>
</file>